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8B14-6ED3-42DD-A575-DCDFC111F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7B2B-6CA1-4BA2-B497-0ACFD506C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D68-CB7E-40B3-B586-7648886D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B7B-23AD-456B-BC2A-453C7416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A71-5957-4595-900D-5B956C5D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727-198C-4EDF-9189-33B3313E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CF7-014E-4761-B3F5-4D6EA786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40C-9157-45A4-8C26-4305E707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E36-589D-4447-B471-C4D3F8A6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B58-B6D8-4200-925D-CB57B19B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B16-6C4C-4C6F-B6C1-A647CF09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D96-5757-4D45-A46D-2FE29325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4DD-8BB4-4DB5-9687-0E9BD2D0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70C-BDC5-43F2-833E-1669B76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2073-75ED-44A1-9DF6-9C98BDDB2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rina Bel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atrina Belna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rina Belang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rina Belang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rina Belang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7150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l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2004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58128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e llamo Katrina. Vivo en Astoria, Nueva York. Yo tengo quince años. No, tengo hermanos. Yo so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cioso y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telig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09480" y="5715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76320" y="6324480"/>
            <a:ext cx="7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 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143000" y="56386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16200" y="3790800"/>
            <a:ext cx="3886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 de la ciudad de Astor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681280" y="3208320"/>
            <a:ext cx="42530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Daph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y bien, gracias.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donde er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30 minutes ago   Octubre 21, de 2011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692440" y="253836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Buenas Tardes!!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05040" y="4430880"/>
            <a:ext cx="4229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chico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2  minutes ago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92440" y="5181480"/>
            <a:ext cx="4241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Jennifer!!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e p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: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minute ago       Octubre 22, de 2011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664000" y="6021360"/>
            <a:ext cx="4346280" cy="5317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 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cho musica.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: Commentario 5 sceonds ago         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094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4" descr="428767_325455040829355_459195800_n.jpg"/>
          <p:cNvPicPr/>
          <p:nvPr/>
        </p:nvPicPr>
        <p:blipFill>
          <a:blip r:embed="rId1"/>
          <a:stretch/>
        </p:blipFill>
        <p:spPr>
          <a:xfrm>
            <a:off x="457200" y="457200"/>
            <a:ext cx="92088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178000" y="3138480"/>
            <a:ext cx="380880" cy="50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96" name="Picture 60" descr=""/>
          <p:cNvPicPr/>
          <p:nvPr/>
        </p:nvPicPr>
        <p:blipFill>
          <a:blip r:embed="rId3"/>
          <a:stretch/>
        </p:blipFill>
        <p:spPr>
          <a:xfrm>
            <a:off x="2232000" y="2513160"/>
            <a:ext cx="257040" cy="53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"/>
          <p:cNvPicPr/>
          <p:nvPr/>
        </p:nvPicPr>
        <p:blipFill>
          <a:blip r:embed="rId4"/>
          <a:stretch/>
        </p:blipFill>
        <p:spPr>
          <a:xfrm>
            <a:off x="2046240" y="3517920"/>
            <a:ext cx="646200" cy="927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0" descr=""/>
          <p:cNvPicPr/>
          <p:nvPr/>
        </p:nvPicPr>
        <p:blipFill>
          <a:blip r:embed="rId5"/>
          <a:stretch/>
        </p:blipFill>
        <p:spPr>
          <a:xfrm>
            <a:off x="2249640" y="5135400"/>
            <a:ext cx="2584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tretch/>
        </p:blipFill>
        <p:spPr>
          <a:xfrm>
            <a:off x="2147760" y="4362480"/>
            <a:ext cx="387360" cy="5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7"/>
          <a:stretch/>
        </p:blipFill>
        <p:spPr>
          <a:xfrm>
            <a:off x="2146320" y="5946840"/>
            <a:ext cx="390600" cy="51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"/>
          <p:cNvPicPr/>
          <p:nvPr/>
        </p:nvPicPr>
        <p:blipFill>
          <a:blip r:embed="rId8"/>
          <a:stretch/>
        </p:blipFill>
        <p:spPr>
          <a:xfrm>
            <a:off x="152280" y="5334120"/>
            <a:ext cx="330480" cy="4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609480" y="5334120"/>
            <a:ext cx="517680" cy="42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1219320" y="5334120"/>
            <a:ext cx="379440" cy="474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4" name="Picture 7" descr=""/>
          <p:cNvPicPr/>
          <p:nvPr/>
        </p:nvPicPr>
        <p:blipFill>
          <a:blip r:embed="rId11"/>
          <a:stretch/>
        </p:blipFill>
        <p:spPr>
          <a:xfrm>
            <a:off x="152280" y="5943600"/>
            <a:ext cx="409680" cy="407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192600" y="64785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2"/>
          <a:stretch/>
        </p:blipFill>
        <p:spPr>
          <a:xfrm>
            <a:off x="685800" y="5943600"/>
            <a:ext cx="5079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13"/>
          <a:stretch/>
        </p:blipFill>
        <p:spPr>
          <a:xfrm>
            <a:off x="1295280" y="594360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1222560" y="6248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5:52Z</dcterms:created>
  <dc:creator>FriscoISD</dc:creator>
  <dc:description/>
  <dc:language>en-US</dc:language>
  <cp:lastModifiedBy>User</cp:lastModifiedBy>
  <dcterms:modified xsi:type="dcterms:W3CDTF">2012-12-06T14:04:35Z</dcterms:modified>
  <cp:revision>119</cp:revision>
  <dc:subject/>
  <dc:title>Profile</dc:title>
</cp:coreProperties>
</file>